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png" ContentType="image/png"/>
  <Override PartName="/ppt/media/image8.jpeg" ContentType="image/jpeg"/>
  <Override PartName="/ppt/media/action.wav" ContentType="audio/x-wav"/>
  <Override PartName="/ppt/media/image4.png" ContentType="image/png"/>
  <Override PartName="/ppt/media/laser.wav" ContentType="audio/x-wav"/>
  <Override PartName="/ppt/media/bad2bone.wav" ContentType="audio/x-wav"/>
  <Override PartName="/ppt/media/working.wav" ContentType="audio/x-wav"/>
  <Override PartName="/ppt/media/thatsallfolks.wav" ContentType="audio/x-wav"/>
  <Override PartName="/ppt/media/understanding.wav" ContentType="audio/x-wav"/>
  <Override PartName="/ppt/media/image6.png" ContentType="image/png"/>
  <Override PartName="/ppt/media/image9.jpeg" ContentType="image/jpeg"/>
  <Override PartName="/ppt/media/voltage.wav" ContentType="audio/x-wav"/>
  <Override PartName="/ppt/media/not_in_kansas.wav" ContentType="audio/x-wav"/>
  <Override PartName="/ppt/media/image7.png" ContentType="image/png"/>
  <Override PartName="/ppt/media/image1.png" ContentType="image/png"/>
  <Override PartName="/ppt/media/image3.jpeg" ContentType="image/jpeg"/>
  <Override PartName="/ppt/media/stuart.wav" ContentType="audio/x-wav"/>
  <Override PartName="/ppt/media/image2.png" ContentType="image/png"/>
  <Override PartName="/ppt/media/aletter.wav" ContentType="audio/x-wav"/>
  <Override PartName="/ppt/media/pu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55A-C33D-42FA-AEC6-7CBC981D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A46-41A7-4A76-AE2D-2AA4E965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669-11B3-4567-B018-C09AE43E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694-545A-4573-BEF1-8C40B24C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E4B-EB4D-42AD-A547-0BCD3FE8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B90-2FDA-4063-B5E9-A0D1111D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50A-E44F-4D59-AAB9-77441011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B5E-EE8C-48D5-BCED-9E0077A4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D63-8760-4783-BACE-86B70770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B3E-09C2-446A-A74F-82765DA8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A8E-FBA3-4480-8996-9B900B25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13C-0C78-4BB2-8454-1E719106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E47A-C486-4B7E-962F-07DF1C7E1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lett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stuart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ctio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not_in_kansa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orking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hatsallfolk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understandin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bad2bon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5029200" cy="3124440"/>
          </a:xfrm>
          <a:prstGeom prst="rect">
            <a:avLst/>
          </a:prstGeom>
          <a:solidFill>
            <a:srgbClr val="8d1728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Dear Juno</a:t>
            </a:r>
            <a:br>
              <a:rPr sz="6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Wall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81120"/>
            <a:ext cx="6400800" cy="1219320"/>
          </a:xfrm>
          <a:prstGeom prst="rect">
            <a:avLst/>
          </a:prstGeom>
          <a:solidFill>
            <a:srgbClr val="a81c30"/>
          </a:solidFill>
          <a:ln w="381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mber 5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dear_juno"/>
          <p:cNvPicPr/>
          <p:nvPr/>
        </p:nvPicPr>
        <p:blipFill>
          <a:blip r:embed="rId1"/>
          <a:stretch/>
        </p:blipFill>
        <p:spPr>
          <a:xfrm>
            <a:off x="5410080" y="762120"/>
            <a:ext cx="358164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alett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3520" y="4114800"/>
            <a:ext cx="8153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My    </a:t>
            </a:r>
            <a:r>
              <a:rPr b="1" lang="en-US" sz="8800" spc="-1" strike="noStrike">
                <a:solidFill>
                  <a:srgbClr val="ff0000"/>
                </a:solidFill>
                <a:latin typeface="Century Gothic"/>
              </a:rPr>
              <a:t>parents</a:t>
            </a: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       care about 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arenting"/>
          <p:cNvPicPr/>
          <p:nvPr/>
        </p:nvPicPr>
        <p:blipFill>
          <a:blip r:embed="rId1"/>
          <a:stretch/>
        </p:blipFill>
        <p:spPr>
          <a:xfrm>
            <a:off x="2209680" y="3808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657600" y="2133720"/>
            <a:ext cx="487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I would like to paint a  picture     in art clas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733920" y="434340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artmat"/>
          <p:cNvPicPr/>
          <p:nvPr/>
        </p:nvPicPr>
        <p:blipFill>
          <a:blip r:embed="rId1"/>
          <a:stretch/>
        </p:blipFill>
        <p:spPr>
          <a:xfrm>
            <a:off x="-228600" y="457200"/>
            <a:ext cx="42400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657600" y="2133720"/>
            <a:ext cx="48769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I would like to paint a  </a:t>
            </a:r>
            <a:r>
              <a:rPr b="1" lang="en-US" sz="8800" spc="-1" strike="noStrike">
                <a:solidFill>
                  <a:srgbClr val="ff0000"/>
                </a:solidFill>
                <a:latin typeface="Century Gothic"/>
              </a:rPr>
              <a:t>picture</a:t>
            </a: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     in art clas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rtmat"/>
          <p:cNvPicPr/>
          <p:nvPr/>
        </p:nvPicPr>
        <p:blipFill>
          <a:blip r:embed="rId1"/>
          <a:stretch/>
        </p:blipFill>
        <p:spPr>
          <a:xfrm>
            <a:off x="-228600" y="457200"/>
            <a:ext cx="42400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80880" y="358128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Leaning Tower of Pisa is in a faraway country called Ita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343400" y="4572000"/>
            <a:ext cx="4495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leaningtower"/>
          <p:cNvPicPr/>
          <p:nvPr/>
        </p:nvPicPr>
        <p:blipFill>
          <a:blip r:embed="rId1"/>
          <a:stretch/>
        </p:blipFill>
        <p:spPr>
          <a:xfrm>
            <a:off x="3443400" y="457200"/>
            <a:ext cx="2446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80880" y="3581280"/>
            <a:ext cx="83059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Leaning Tower of Pisa is in a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faraway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country called Ita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leaningtower"/>
          <p:cNvPicPr/>
          <p:nvPr/>
        </p:nvPicPr>
        <p:blipFill>
          <a:blip r:embed="rId1"/>
          <a:stretch/>
        </p:blipFill>
        <p:spPr>
          <a:xfrm>
            <a:off x="3443400" y="457200"/>
            <a:ext cx="2446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371600" y="4038480"/>
            <a:ext cx="693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My dad works for a construction     company      .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447920" y="563868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company"/>
          <p:cNvPicPr/>
          <p:nvPr/>
        </p:nvPicPr>
        <p:blipFill>
          <a:blip r:embed="rId1"/>
          <a:stretch/>
        </p:blipFill>
        <p:spPr>
          <a:xfrm>
            <a:off x="1523880" y="119160"/>
            <a:ext cx="54104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371600" y="3962520"/>
            <a:ext cx="693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My dad works for a construction     </a:t>
            </a:r>
            <a:r>
              <a:rPr b="1" lang="en-US" sz="7200" spc="-1" strike="noStrike">
                <a:solidFill>
                  <a:srgbClr val="ff0000"/>
                </a:solidFill>
                <a:latin typeface="Century Gothic"/>
              </a:rPr>
              <a:t>company</a:t>
            </a: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 .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ompany"/>
          <p:cNvPicPr/>
          <p:nvPr/>
        </p:nvPicPr>
        <p:blipFill>
          <a:blip r:embed="rId1"/>
          <a:stretch/>
        </p:blipFill>
        <p:spPr>
          <a:xfrm>
            <a:off x="1523880" y="119160"/>
            <a:ext cx="54104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533520"/>
            <a:ext cx="8381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wa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16765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Century Gothic"/>
              </a:rPr>
              <a:t>company</a:t>
            </a:r>
            <a:endParaRPr b="0" lang="en-US" sz="1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152280"/>
            <a:ext cx="9144000" cy="65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ictu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cho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answ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farawa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r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a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comp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arent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80880" y="205740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Century Gothic"/>
              </a:rPr>
              <a:t>faraway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1676520"/>
            <a:ext cx="914400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answe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pictur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school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6" descr="porkypig"/>
          <p:cNvPicPr/>
          <p:nvPr/>
        </p:nvPicPr>
        <p:blipFill>
          <a:blip r:embed="rId1"/>
          <a:stretch/>
        </p:blipFill>
        <p:spPr>
          <a:xfrm>
            <a:off x="2057400" y="-76320"/>
            <a:ext cx="4984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533520" y="441972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answer       is th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057400" y="4419720"/>
            <a:ext cx="3962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3hand1"/>
          <p:cNvPicPr/>
          <p:nvPr/>
        </p:nvPicPr>
        <p:blipFill>
          <a:blip r:embed="rId1"/>
          <a:stretch/>
        </p:blipFill>
        <p:spPr>
          <a:xfrm rot="19869600">
            <a:off x="2819520" y="30492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4419720"/>
            <a:ext cx="7848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The 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answer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   is th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hand1"/>
          <p:cNvPicPr/>
          <p:nvPr/>
        </p:nvPicPr>
        <p:blipFill>
          <a:blip r:embed="rId1"/>
          <a:stretch/>
        </p:blipFill>
        <p:spPr>
          <a:xfrm rot="19869600">
            <a:off x="2819520" y="30492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3520" y="44197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Make sure to   wash your hands we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638680" y="4495680"/>
            <a:ext cx="3124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washhands"/>
          <p:cNvPicPr/>
          <p:nvPr/>
        </p:nvPicPr>
        <p:blipFill>
          <a:blip r:embed="rId1"/>
          <a:stretch/>
        </p:blipFill>
        <p:spPr>
          <a:xfrm>
            <a:off x="3389400" y="304920"/>
            <a:ext cx="2982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3520" y="4419720"/>
            <a:ext cx="8153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Make sure to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wash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your hands we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washhands"/>
          <p:cNvPicPr/>
          <p:nvPr/>
        </p:nvPicPr>
        <p:blipFill>
          <a:blip r:embed="rId1"/>
          <a:stretch/>
        </p:blipFill>
        <p:spPr>
          <a:xfrm>
            <a:off x="3389400" y="304920"/>
            <a:ext cx="2982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402264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We attend Piedmont         School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33520" y="5029200"/>
            <a:ext cx="44193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school8"/>
          <p:cNvPicPr/>
          <p:nvPr/>
        </p:nvPicPr>
        <p:blipFill>
          <a:blip r:embed="rId1"/>
          <a:stretch/>
        </p:blipFill>
        <p:spPr>
          <a:xfrm>
            <a:off x="609480" y="533520"/>
            <a:ext cx="3056040" cy="3276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6"/>
          <p:cNvSpPr/>
          <p:nvPr/>
        </p:nvSpPr>
        <p:spPr>
          <a:xfrm>
            <a:off x="1371600" y="2230560"/>
            <a:ext cx="15238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4022640"/>
            <a:ext cx="8153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We attend Piedmont       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School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chool8"/>
          <p:cNvPicPr/>
          <p:nvPr/>
        </p:nvPicPr>
        <p:blipFill>
          <a:blip r:embed="rId1"/>
          <a:stretch/>
        </p:blipFill>
        <p:spPr>
          <a:xfrm>
            <a:off x="609480" y="533520"/>
            <a:ext cx="3056040" cy="327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371600" y="2230560"/>
            <a:ext cx="15238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33520" y="411480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Gothic"/>
              </a:rPr>
              <a:t>My    parents       care about 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438280" y="426708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parenting"/>
          <p:cNvPicPr/>
          <p:nvPr/>
        </p:nvPicPr>
        <p:blipFill>
          <a:blip r:embed="rId1"/>
          <a:stretch/>
        </p:blipFill>
        <p:spPr>
          <a:xfrm>
            <a:off x="2209680" y="3808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teacher</cp:lastModifiedBy>
  <dcterms:modified xsi:type="dcterms:W3CDTF">2010-11-06T19:38:07Z</dcterms:modified>
  <cp:revision>32</cp:revision>
  <dc:subject/>
  <dc:title>Turtle’s Race With Beaver Word Wall Words</dc:title>
</cp:coreProperties>
</file>